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34.jpeg" ContentType="image/jpeg"/>
  <Override PartName="/ppt/media/image6.png" ContentType="image/png"/>
  <Override PartName="/ppt/media/image29.png" ContentType="image/png"/>
  <Override PartName="/ppt/media/image11.png" ContentType="image/png"/>
  <Override PartName="/ppt/media/image12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gif" ContentType="image/gif"/>
  <Override PartName="/ppt/media/image32.jpeg" ContentType="image/jpeg"/>
  <Override PartName="/ppt/media/image17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0F2-6602-4D14-8E25-6D6D3BBC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008-B805-4BCF-8B7E-B54181A5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9D4-C39F-4AB0-B11C-7A916A5D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D23-113B-43FD-9A5D-56B7025F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019D-2BE8-4329-AAC9-00C80A94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9AF0-22A5-4E00-9044-A2AC2A62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FCA3-79E9-4899-B905-54CFF8BE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4C85-3164-4A07-895A-EE1E12B9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2ED9-46AA-4F0D-9772-C8359F6C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1FB5-2679-4E17-BCA4-4C3F1A4B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68C8-28A4-4C45-AF76-5C323819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649-38B2-44F7-B5D9-BC46D7FB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D74E-1805-4970-B785-A65C6649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0B64-AA4C-4064-B6B1-0AADDED5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1CBC-DCCB-4F12-9156-771F89A8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8CAE-3995-4460-9842-3FD36022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D18F-DADA-4784-8FC9-33FB7100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CA8C9-E5D9-44AF-95B2-EEDD04E5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098AD-BE38-4446-B962-BDF70C07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E535F-F091-424C-863E-5BB84FDA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46378-E8C0-4DB1-A3CA-8E449C17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5D72D-63A2-4206-B435-9ED8B7EB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C4F6-9C60-4E93-AD18-A1E0010A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EA454-4B13-46F4-9DF6-7C6B3C4F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332B9-005E-4665-B205-1AADB34A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5ED65-A915-4DAB-B077-5DFEBAEB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1DB91-B8C1-410D-B872-60566FEE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0CFB0-1D6C-4BC6-BB46-7171573A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5828A-5CD3-4DE0-BF50-1B0E7BBC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9B052-0DA5-45BB-80E6-15FA2895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05ADA-1FA6-4238-92B6-2ECD1D7F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D1744-8586-463C-9834-A76A720D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28F6E-B055-47D8-907C-61F2671F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E7D-6EA1-49BA-B072-0917B683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693FA-4C34-4EED-9912-E5F5D997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0D22A-D03F-4184-920B-7EF22285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7BFA6-64E4-412C-815A-A4D002D5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CCF7-55D4-4C85-9926-E72F3B67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A425D-2472-47BB-8910-95D773DB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8192C-F4D9-42DE-B4B4-F494CD84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631BC-A1E2-4F20-A69C-A0285A30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97EF3-6DB2-41F2-AB93-78F12C2F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93308-D36D-4F64-9270-B930E074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77C-265F-4577-B637-17411721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C4D-17D4-4EDA-AC06-A04CFE1A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672-FB6B-4A66-AAFD-F08FA009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231-150A-47B3-9BD9-4B77F46E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ED8-91EC-4E4E-8BFD-D85263F6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5BAA-BCC2-4E86-88E4-2A4449458937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1BFD-8FA4-4FE1-B52D-247651B3813E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DB1A-E61B-45D8-8B16-740497450376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DFD2-3AC4-473A-AAAF-77ECBA97C222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gif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1.png"/><Relationship Id="rId6" Type="http://schemas.openxmlformats.org/officeDocument/2006/relationships/image" Target="../media/image2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Diagram 5" descr=""/>
          <p:cNvPicPr/>
          <p:nvPr/>
        </p:nvPicPr>
        <p:blipFill>
          <a:blip r:embed="rId1"/>
          <a:stretch/>
        </p:blipFill>
        <p:spPr>
          <a:xfrm>
            <a:off x="353880" y="291960"/>
            <a:ext cx="8352000" cy="1086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456840" y="1523880"/>
            <a:ext cx="845820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ast adaptive radiation vs. convergent evolution?  Give an example of each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is the correct sequence from the most comprehensive to least comprehensive taxon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a population of 500 rabbits, 320 are homozygous dominant for brown coat color (BB), 160 are heterozygous (Bb), and 20 are homozygous white (bb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06680" indent="-343080">
              <a:spcBef>
                <a:spcPts val="300"/>
              </a:spcBef>
              <a:buClr>
                <a:srgbClr val="53548a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f8d"/>
                </a:solidFill>
                <a:latin typeface="Georgia"/>
              </a:rPr>
              <a:t>What are the frequencies of the alleles (B and b)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706680" indent="-343080">
              <a:spcBef>
                <a:spcPts val="300"/>
              </a:spcBef>
              <a:buClr>
                <a:srgbClr val="53548a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f8d"/>
                </a:solidFill>
                <a:latin typeface="Georgia"/>
              </a:rPr>
              <a:t>What are the frequencies of the different genotypes (BB, Bb, and bb)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ctivity: Constructing a Cookie Phylogenetic Tre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1874880" cy="12240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 rot="5236200">
            <a:off x="2459880" y="1191240"/>
            <a:ext cx="1528920" cy="15019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sp>
        <p:nvSpPr>
          <p:cNvPr id="247" name="Rectangle 6"/>
          <p:cNvSpPr/>
          <p:nvPr/>
        </p:nvSpPr>
        <p:spPr>
          <a:xfrm>
            <a:off x="455760" y="669960"/>
            <a:ext cx="4044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e2810"/>
                </a:solidFill>
                <a:latin typeface="Georgia"/>
              </a:rPr>
              <a:t>Living (extant) spe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3"/>
          <a:stretch/>
        </p:blipFill>
        <p:spPr>
          <a:xfrm>
            <a:off x="6254640" y="2908440"/>
            <a:ext cx="1876680" cy="12222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sp>
        <p:nvSpPr>
          <p:cNvPr id="249" name="Rectangle 8"/>
          <p:cNvSpPr/>
          <p:nvPr/>
        </p:nvSpPr>
        <p:spPr>
          <a:xfrm>
            <a:off x="6553080" y="4468680"/>
            <a:ext cx="17877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e2810"/>
                </a:solidFill>
                <a:latin typeface="Georgia"/>
              </a:rPr>
              <a:t>Common ances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e2810"/>
                </a:solidFill>
                <a:latin typeface="Georgia"/>
              </a:rPr>
              <a:t>(fossi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http://tatumweb.com/blog/pix/cookie.jpg"/>
          <p:cNvPicPr/>
          <p:nvPr/>
        </p:nvPicPr>
        <p:blipFill>
          <a:blip r:embed="rId4"/>
          <a:stretch/>
        </p:blipFill>
        <p:spPr>
          <a:xfrm>
            <a:off x="762120" y="1295280"/>
            <a:ext cx="1428480" cy="1447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http://1.bp.blogspot.com/-ud2FV4QT1Q8/TcBRyG5iZnI/AAAAAAAABWk/InBeN_qAYqo/s1600/Oreo%2BIII.jpg"/>
          <p:cNvPicPr/>
          <p:nvPr/>
        </p:nvPicPr>
        <p:blipFill>
          <a:blip r:embed="rId5"/>
          <a:srcRect l="15965" t="0" r="20205" b="0"/>
          <a:stretch/>
        </p:blipFill>
        <p:spPr>
          <a:xfrm>
            <a:off x="2514600" y="4572000"/>
            <a:ext cx="1523880" cy="1592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http://www.x-entertainment.com/updates/pics/cookie.gif"/>
          <p:cNvPicPr/>
          <p:nvPr/>
        </p:nvPicPr>
        <p:blipFill>
          <a:blip r:embed="rId6"/>
          <a:stretch/>
        </p:blipFill>
        <p:spPr>
          <a:xfrm>
            <a:off x="533520" y="2895480"/>
            <a:ext cx="1400040" cy="1371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http://www.foodservicedirect.com/productimages/OTF454339S.jpg"/>
          <p:cNvPicPr/>
          <p:nvPr/>
        </p:nvPicPr>
        <p:blipFill>
          <a:blip r:embed="rId7"/>
          <a:stretch/>
        </p:blipFill>
        <p:spPr>
          <a:xfrm>
            <a:off x="2590920" y="2819520"/>
            <a:ext cx="1485720" cy="148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" descr=""/>
          <p:cNvPicPr/>
          <p:nvPr/>
        </p:nvPicPr>
        <p:blipFill>
          <a:blip r:embed="rId1"/>
          <a:stretch/>
        </p:blipFill>
        <p:spPr>
          <a:xfrm>
            <a:off x="874800" y="820800"/>
            <a:ext cx="7394400" cy="52070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2"/>
          <p:cNvSpPr/>
          <p:nvPr/>
        </p:nvSpPr>
        <p:spPr>
          <a:xfrm>
            <a:off x="6598440" y="491040"/>
            <a:ext cx="1578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f1f1c"/>
                </a:solidFill>
                <a:latin typeface="Georgia"/>
              </a:rPr>
              <a:t>Extant spec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019520" y="852480"/>
            <a:ext cx="982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f1f1c"/>
                </a:solidFill>
                <a:latin typeface="Georgia"/>
              </a:rPr>
              <a:t>Comm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f1f1c"/>
                </a:solidFill>
                <a:latin typeface="Georgia"/>
              </a:rPr>
              <a:t>ances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"/>
          <p:cNvPicPr/>
          <p:nvPr/>
        </p:nvPicPr>
        <p:blipFill>
          <a:blip r:embed="rId1"/>
          <a:stretch/>
        </p:blipFill>
        <p:spPr>
          <a:xfrm>
            <a:off x="2205000" y="1758960"/>
            <a:ext cx="4125960" cy="39290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6545160" y="5292720"/>
            <a:ext cx="1231920" cy="8031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259" name="Picture 3" descr=""/>
          <p:cNvPicPr/>
          <p:nvPr/>
        </p:nvPicPr>
        <p:blipFill>
          <a:blip r:embed="rId3"/>
          <a:stretch/>
        </p:blipFill>
        <p:spPr>
          <a:xfrm rot="21060000">
            <a:off x="6723000" y="2261880"/>
            <a:ext cx="874800" cy="8762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260" name="Picture 4" descr=""/>
          <p:cNvPicPr/>
          <p:nvPr/>
        </p:nvPicPr>
        <p:blipFill>
          <a:blip r:embed="rId4"/>
          <a:stretch/>
        </p:blipFill>
        <p:spPr>
          <a:xfrm>
            <a:off x="6491160" y="4321080"/>
            <a:ext cx="1327320" cy="6876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261" name="Picture 5" descr=""/>
          <p:cNvPicPr/>
          <p:nvPr/>
        </p:nvPicPr>
        <p:blipFill>
          <a:blip r:embed="rId5"/>
          <a:stretch/>
        </p:blipFill>
        <p:spPr>
          <a:xfrm>
            <a:off x="914400" y="4108320"/>
            <a:ext cx="1231920" cy="8035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262" name="Picture 6" descr=""/>
          <p:cNvPicPr/>
          <p:nvPr/>
        </p:nvPicPr>
        <p:blipFill>
          <a:blip r:embed="rId6"/>
          <a:stretch/>
        </p:blipFill>
        <p:spPr>
          <a:xfrm>
            <a:off x="6545160" y="3402000"/>
            <a:ext cx="1231920" cy="6382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263" name="Picture 7" descr=""/>
          <p:cNvPicPr/>
          <p:nvPr/>
        </p:nvPicPr>
        <p:blipFill>
          <a:blip r:embed="rId7"/>
          <a:stretch/>
        </p:blipFill>
        <p:spPr>
          <a:xfrm rot="5236200">
            <a:off x="6730200" y="1306440"/>
            <a:ext cx="855720" cy="8398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sp>
        <p:nvSpPr>
          <p:cNvPr id="264" name="Rectangle 8"/>
          <p:cNvSpPr/>
          <p:nvPr/>
        </p:nvSpPr>
        <p:spPr>
          <a:xfrm>
            <a:off x="534960" y="723960"/>
            <a:ext cx="70851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2810"/>
                </a:solidFill>
                <a:latin typeface="Georgia"/>
              </a:rPr>
              <a:t>Example of a Cookie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28600" y="15235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0000"/>
                </a:solidFill>
                <a:uFillTx/>
                <a:latin typeface="Georgia"/>
              </a:rPr>
              <a:t>Clad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group of species that includes an ancestral species + all descend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Shared derived characteristic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d to construct cladogram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Diagram 3" descr=""/>
          <p:cNvPicPr/>
          <p:nvPr/>
        </p:nvPicPr>
        <p:blipFill>
          <a:blip r:embed="rId1"/>
          <a:stretch/>
        </p:blipFill>
        <p:spPr>
          <a:xfrm>
            <a:off x="396720" y="255600"/>
            <a:ext cx="8309160" cy="113508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4"/>
          <p:cNvGrpSpPr/>
          <p:nvPr/>
        </p:nvGrpSpPr>
        <p:grpSpPr>
          <a:xfrm>
            <a:off x="1828800" y="3505320"/>
            <a:ext cx="5091120" cy="2887560"/>
            <a:chOff x="1828800" y="3505320"/>
            <a:chExt cx="5091120" cy="2887560"/>
          </a:xfrm>
        </p:grpSpPr>
        <p:pic>
          <p:nvPicPr>
            <p:cNvPr id="268" name="Picture 30" descr="_x0015_25_11bCladogram_U.jpg                                          0002D8B8&#10;CS1-Vol.07                     BD7D9C21:"/>
            <p:cNvPicPr/>
            <p:nvPr/>
          </p:nvPicPr>
          <p:blipFill>
            <a:blip r:embed="rId2"/>
            <a:stretch/>
          </p:blipFill>
          <p:spPr>
            <a:xfrm>
              <a:off x="1828800" y="3505320"/>
              <a:ext cx="5091120" cy="28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18"/>
            <p:cNvSpPr/>
            <p:nvPr/>
          </p:nvSpPr>
          <p:spPr>
            <a:xfrm>
              <a:off x="4904280" y="4017240"/>
              <a:ext cx="649440" cy="1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r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9"/>
            <p:cNvSpPr/>
            <p:nvPr/>
          </p:nvSpPr>
          <p:spPr>
            <a:xfrm>
              <a:off x="5974200" y="3965040"/>
              <a:ext cx="7621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op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0"/>
            <p:cNvSpPr/>
            <p:nvPr/>
          </p:nvSpPr>
          <p:spPr>
            <a:xfrm>
              <a:off x="5941080" y="4234680"/>
              <a:ext cx="443880" cy="1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1"/>
            <p:cNvSpPr/>
            <p:nvPr/>
          </p:nvSpPr>
          <p:spPr>
            <a:xfrm>
              <a:off x="5376600" y="4600080"/>
              <a:ext cx="12013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niotic eg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2"/>
            <p:cNvSpPr/>
            <p:nvPr/>
          </p:nvSpPr>
          <p:spPr>
            <a:xfrm>
              <a:off x="5095440" y="4987440"/>
              <a:ext cx="1521360" cy="1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ur walking le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3"/>
            <p:cNvSpPr/>
            <p:nvPr/>
          </p:nvSpPr>
          <p:spPr>
            <a:xfrm>
              <a:off x="4605840" y="5315400"/>
              <a:ext cx="116532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nged j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4"/>
            <p:cNvSpPr/>
            <p:nvPr/>
          </p:nvSpPr>
          <p:spPr>
            <a:xfrm>
              <a:off x="4192920" y="5688360"/>
              <a:ext cx="148752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rtebral colu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5"/>
            <p:cNvSpPr/>
            <p:nvPr/>
          </p:nvSpPr>
          <p:spPr>
            <a:xfrm>
              <a:off x="3993120" y="4391280"/>
              <a:ext cx="1065240" cy="1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laman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6"/>
            <p:cNvSpPr/>
            <p:nvPr/>
          </p:nvSpPr>
          <p:spPr>
            <a:xfrm>
              <a:off x="4030200" y="4799160"/>
              <a:ext cx="496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7"/>
            <p:cNvSpPr/>
            <p:nvPr/>
          </p:nvSpPr>
          <p:spPr>
            <a:xfrm>
              <a:off x="3231000" y="5186520"/>
              <a:ext cx="88812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mpr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8"/>
            <p:cNvSpPr/>
            <p:nvPr/>
          </p:nvSpPr>
          <p:spPr>
            <a:xfrm>
              <a:off x="1859760" y="5523480"/>
              <a:ext cx="18284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celet (outgrou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29"/>
            <p:cNvSpPr/>
            <p:nvPr/>
          </p:nvSpPr>
          <p:spPr>
            <a:xfrm>
              <a:off x="2217960" y="6130800"/>
              <a:ext cx="94392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adogr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26_10_MonoParaPolyphyl-L.jpg"/>
          <p:cNvPicPr/>
          <p:nvPr/>
        </p:nvPicPr>
        <p:blipFill>
          <a:blip r:embed="rId1"/>
          <a:stretch/>
        </p:blipFill>
        <p:spPr>
          <a:xfrm>
            <a:off x="149400" y="1905120"/>
            <a:ext cx="8918280" cy="36511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Monophyletic, paraphyletic, and polyphyletic group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Constructing a phylogenetic tree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4" name="Picture 2" descr="26_11_ConstructPhyloTree-L.jpg"/>
          <p:cNvPicPr/>
          <p:nvPr/>
        </p:nvPicPr>
        <p:blipFill>
          <a:blip r:embed="rId1"/>
          <a:stretch/>
        </p:blipFill>
        <p:spPr>
          <a:xfrm>
            <a:off x="380880" y="1752480"/>
            <a:ext cx="8547120" cy="38959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"/>
          <p:cNvSpPr/>
          <p:nvPr/>
        </p:nvSpPr>
        <p:spPr>
          <a:xfrm>
            <a:off x="380880" y="5754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0 indicates a character is absent; a 1 indicates that a character is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rebuchet MS"/>
              </a:rPr>
              <a:t>Branch lengths can represent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Trebuchet MS"/>
              </a:rPr>
              <a:t>genetic change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7" name="Picture 3" descr="26_12GeneticChangeTree-L.jpg"/>
          <p:cNvPicPr/>
          <p:nvPr/>
        </p:nvPicPr>
        <p:blipFill>
          <a:blip r:embed="rId1"/>
          <a:stretch/>
        </p:blipFill>
        <p:spPr>
          <a:xfrm>
            <a:off x="304920" y="1676520"/>
            <a:ext cx="85471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rebuchet MS"/>
              </a:rPr>
              <a:t>Branch lengths can indicate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Trebuchet MS"/>
              </a:rPr>
              <a:t>time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9" name="Picture 4" descr="26_13GeologicChangeTree-L.jpg"/>
          <p:cNvPicPr/>
          <p:nvPr/>
        </p:nvPicPr>
        <p:blipFill>
          <a:blip r:embed="rId1"/>
          <a:stretch/>
        </p:blipFill>
        <p:spPr>
          <a:xfrm>
            <a:off x="304920" y="1523880"/>
            <a:ext cx="8547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26_UN05Test_Q9-L.jpg"/>
          <p:cNvPicPr/>
          <p:nvPr/>
        </p:nvPicPr>
        <p:blipFill>
          <a:blip r:embed="rId1"/>
          <a:stretch/>
        </p:blipFill>
        <p:spPr>
          <a:xfrm>
            <a:off x="304920" y="1371600"/>
            <a:ext cx="8547120" cy="52610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rebuchet MS"/>
              </a:rPr>
              <a:t>Draw a phylogenetic tree based on the data below. Draw hatch marks on the tree to indicate the origin(s) of each of the 6 characters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hapter 26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hylogeny and the Tree of Lif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25_01DragonflyFossil_UP"/>
          <p:cNvPicPr/>
          <p:nvPr/>
        </p:nvPicPr>
        <p:blipFill>
          <a:blip r:embed="rId1"/>
          <a:stretch/>
        </p:blipFill>
        <p:spPr>
          <a:xfrm>
            <a:off x="4952880" y="1981080"/>
            <a:ext cx="39625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Answer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3" name="Picture 2" descr="26_UN11AnsTestQ9-L.jpg"/>
          <p:cNvPicPr/>
          <p:nvPr/>
        </p:nvPicPr>
        <p:blipFill>
          <a:blip r:embed="rId1"/>
          <a:srcRect l="0" t="0" r="0" b="52318"/>
          <a:stretch/>
        </p:blipFill>
        <p:spPr>
          <a:xfrm>
            <a:off x="914400" y="1676520"/>
            <a:ext cx="724212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6606360" y="4955760"/>
            <a:ext cx="1541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e2810"/>
                </a:solidFill>
                <a:latin typeface="Georgia"/>
              </a:rPr>
              <a:t>Unrooted tre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585720" y="4955760"/>
            <a:ext cx="237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e2810"/>
                </a:solidFill>
                <a:latin typeface="Georgia"/>
              </a:rPr>
              <a:t>Circular (rooted) tre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934440" y="5374800"/>
            <a:ext cx="1274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e2810"/>
                </a:solidFill>
                <a:latin typeface="Georgia"/>
              </a:rPr>
              <a:t>Rooted tre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143000" y="952560"/>
            <a:ext cx="6837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2810"/>
                </a:solidFill>
                <a:latin typeface="Georgia"/>
              </a:rPr>
              <a:t>Various tree layo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2982960" cy="21067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5878440" y="2378160"/>
            <a:ext cx="2984400" cy="21081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  <p:pic>
        <p:nvPicPr>
          <p:cNvPr id="300" name="Picture 7" descr=""/>
          <p:cNvPicPr/>
          <p:nvPr/>
        </p:nvPicPr>
        <p:blipFill>
          <a:blip r:embed="rId3"/>
          <a:stretch/>
        </p:blipFill>
        <p:spPr>
          <a:xfrm>
            <a:off x="3430440" y="1812960"/>
            <a:ext cx="2278080" cy="32241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dede">
                <a:alpha val="75000"/>
              </a:srgbClr>
            </a:outerShdw>
          </a:effectLst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609480"/>
            <a:ext cx="8229600" cy="596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nciple of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</a:rPr>
              <a:t>maximum parsimon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use simplest explanation (fewest DNA changes) for tree – “keep it simple”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00"/>
                </a:solidFill>
                <a:uFillTx/>
                <a:latin typeface="Georgia"/>
              </a:rPr>
              <a:t>Molecular clock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some regions of DNA appear to evolve at constant ra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stimate date of past evolutionary eve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g. Origin of HIV infection in humans= 1930’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302" name="Picture 4" descr="26_20HIVMolecularClock-L.jpg"/>
          <p:cNvPicPr/>
          <p:nvPr/>
        </p:nvPicPr>
        <p:blipFill>
          <a:blip r:embed="rId1"/>
          <a:stretch/>
        </p:blipFill>
        <p:spPr>
          <a:xfrm>
            <a:off x="5791320" y="3833640"/>
            <a:ext cx="2819160" cy="3024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26_19MammalMolClock-L.jpg"/>
          <p:cNvPicPr/>
          <p:nvPr/>
        </p:nvPicPr>
        <p:blipFill>
          <a:blip r:embed="rId2"/>
          <a:stretch/>
        </p:blipFill>
        <p:spPr>
          <a:xfrm>
            <a:off x="533520" y="4038480"/>
            <a:ext cx="4686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ree of Lif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294920"/>
            <a:ext cx="8229600" cy="52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 Domains: Bacteria, Archaea, Eukary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6" name="Picture 3" descr="26_21_ThreeDomains-L.jpg"/>
          <p:cNvPicPr/>
          <p:nvPr/>
        </p:nvPicPr>
        <p:blipFill>
          <a:blip r:embed="rId1"/>
          <a:stretch/>
        </p:blipFill>
        <p:spPr>
          <a:xfrm>
            <a:off x="1371600" y="1981080"/>
            <a:ext cx="62546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3048120" y="457200"/>
            <a:ext cx="281916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YST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7"/>
          <p:cNvSpPr/>
          <p:nvPr/>
        </p:nvSpPr>
        <p:spPr>
          <a:xfrm>
            <a:off x="838080" y="1447920"/>
            <a:ext cx="28195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ologica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8"/>
          <p:cNvSpPr/>
          <p:nvPr/>
        </p:nvSpPr>
        <p:spPr>
          <a:xfrm>
            <a:off x="1182600" y="2209680"/>
            <a:ext cx="2133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380880" y="3429000"/>
            <a:ext cx="21337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dentification of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0"/>
          <p:cNvSpPr/>
          <p:nvPr/>
        </p:nvSpPr>
        <p:spPr>
          <a:xfrm>
            <a:off x="380880" y="4648320"/>
            <a:ext cx="2133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304920" y="5715000"/>
            <a:ext cx="2286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us,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3048120" y="3505320"/>
            <a:ext cx="685800" cy="302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3"/>
          <p:cNvSpPr/>
          <p:nvPr/>
        </p:nvSpPr>
        <p:spPr>
          <a:xfrm>
            <a:off x="5334120" y="1295280"/>
            <a:ext cx="22096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hylog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4"/>
          <p:cNvSpPr/>
          <p:nvPr/>
        </p:nvSpPr>
        <p:spPr>
          <a:xfrm>
            <a:off x="5105520" y="2971800"/>
            <a:ext cx="22096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5"/>
          <p:cNvSpPr/>
          <p:nvPr/>
        </p:nvSpPr>
        <p:spPr>
          <a:xfrm>
            <a:off x="7086600" y="2286000"/>
            <a:ext cx="17524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ad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6"/>
          <p:cNvSpPr/>
          <p:nvPr/>
        </p:nvSpPr>
        <p:spPr>
          <a:xfrm>
            <a:off x="4572000" y="3886200"/>
            <a:ext cx="21337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molo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ila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7"/>
          <p:cNvSpPr/>
          <p:nvPr/>
        </p:nvSpPr>
        <p:spPr>
          <a:xfrm>
            <a:off x="6934320" y="4191120"/>
            <a:ext cx="121896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ss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4038480" y="5410080"/>
            <a:ext cx="17528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9"/>
          <p:cNvSpPr/>
          <p:nvPr/>
        </p:nvSpPr>
        <p:spPr>
          <a:xfrm>
            <a:off x="5486400" y="6019920"/>
            <a:ext cx="1981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rp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24"/>
          <p:cNvSpPr/>
          <p:nvPr/>
        </p:nvSpPr>
        <p:spPr>
          <a:xfrm flipH="1" flipV="1">
            <a:off x="2247480" y="1909440"/>
            <a:ext cx="1800" cy="29988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27"/>
          <p:cNvSpPr/>
          <p:nvPr/>
        </p:nvSpPr>
        <p:spPr>
          <a:xfrm flipV="1">
            <a:off x="1447200" y="2671560"/>
            <a:ext cx="801720" cy="75708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30"/>
          <p:cNvSpPr/>
          <p:nvPr/>
        </p:nvSpPr>
        <p:spPr>
          <a:xfrm flipH="1" flipV="1">
            <a:off x="2249640" y="2671560"/>
            <a:ext cx="1141200" cy="83340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33"/>
          <p:cNvSpPr/>
          <p:nvPr/>
        </p:nvSpPr>
        <p:spPr>
          <a:xfrm flipV="1">
            <a:off x="1447920" y="4258800"/>
            <a:ext cx="0" cy="38916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36"/>
          <p:cNvSpPr/>
          <p:nvPr/>
        </p:nvSpPr>
        <p:spPr>
          <a:xfrm flipV="1">
            <a:off x="1447920" y="5110200"/>
            <a:ext cx="0" cy="60480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40"/>
          <p:cNvSpPr/>
          <p:nvPr/>
        </p:nvSpPr>
        <p:spPr>
          <a:xfrm flipV="1">
            <a:off x="5638680" y="3433320"/>
            <a:ext cx="571680" cy="45252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44"/>
          <p:cNvSpPr/>
          <p:nvPr/>
        </p:nvSpPr>
        <p:spPr>
          <a:xfrm flipH="1" flipV="1">
            <a:off x="6210360" y="3433680"/>
            <a:ext cx="1333440" cy="75744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49"/>
          <p:cNvSpPr/>
          <p:nvPr/>
        </p:nvSpPr>
        <p:spPr>
          <a:xfrm flipH="1">
            <a:off x="4915080" y="4716360"/>
            <a:ext cx="723600" cy="69372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52"/>
          <p:cNvSpPr/>
          <p:nvPr/>
        </p:nvSpPr>
        <p:spPr>
          <a:xfrm flipH="1" flipV="1">
            <a:off x="5638320" y="4716000"/>
            <a:ext cx="838440" cy="130356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55"/>
          <p:cNvSpPr/>
          <p:nvPr/>
        </p:nvSpPr>
        <p:spPr>
          <a:xfrm flipV="1">
            <a:off x="6209640" y="1757160"/>
            <a:ext cx="228600" cy="121428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8"/>
          <p:cNvSpPr/>
          <p:nvPr/>
        </p:nvSpPr>
        <p:spPr>
          <a:xfrm flipH="1" flipV="1">
            <a:off x="6438600" y="1757520"/>
            <a:ext cx="1523880" cy="52848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62"/>
          <p:cNvSpPr/>
          <p:nvPr/>
        </p:nvSpPr>
        <p:spPr>
          <a:xfrm flipH="1" flipV="1">
            <a:off x="4457520" y="918720"/>
            <a:ext cx="1981080" cy="37620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65"/>
          <p:cNvSpPr/>
          <p:nvPr/>
        </p:nvSpPr>
        <p:spPr>
          <a:xfrm>
            <a:off x="3316320" y="2440080"/>
            <a:ext cx="1789200" cy="76176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68"/>
          <p:cNvSpPr/>
          <p:nvPr/>
        </p:nvSpPr>
        <p:spPr>
          <a:xfrm flipV="1">
            <a:off x="3390120" y="3201480"/>
            <a:ext cx="1714680" cy="30348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12"/>
          <p:cNvGrpSpPr/>
          <p:nvPr/>
        </p:nvGrpSpPr>
        <p:grpSpPr>
          <a:xfrm>
            <a:off x="1976760" y="762480"/>
            <a:ext cx="2480760" cy="721440"/>
            <a:chOff x="1976760" y="762480"/>
            <a:chExt cx="2480760" cy="721440"/>
          </a:xfrm>
        </p:grpSpPr>
        <p:sp>
          <p:nvSpPr>
            <p:cNvPr id="336" name="Straight Connector 21"/>
            <p:cNvSpPr/>
            <p:nvPr/>
          </p:nvSpPr>
          <p:spPr>
            <a:xfrm flipH="1">
              <a:off x="2247480" y="919080"/>
              <a:ext cx="2210040" cy="528840"/>
            </a:xfrm>
            <a:prstGeom prst="line">
              <a:avLst/>
            </a:prstGeom>
            <a:ln w="3816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111"/>
            <p:cNvSpPr/>
            <p:nvPr/>
          </p:nvSpPr>
          <p:spPr>
            <a:xfrm rot="20770800">
              <a:off x="1987560" y="969480"/>
              <a:ext cx="177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eorgia"/>
                </a:rPr>
                <a:t>focuses 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at you need to know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taxonomic categories and how they indicate relatednes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systematics is used to develop phylogenetic tre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three domains of life including their similarities and their differenc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TextBox 21"/>
          <p:cNvGrpSpPr/>
          <p:nvPr/>
        </p:nvGrpSpPr>
        <p:grpSpPr>
          <a:xfrm>
            <a:off x="426960" y="3200400"/>
            <a:ext cx="3102120" cy="817560"/>
            <a:chOff x="426960" y="3200400"/>
            <a:chExt cx="3102120" cy="817560"/>
          </a:xfrm>
        </p:grpSpPr>
        <p:pic>
          <p:nvPicPr>
            <p:cNvPr id="222" name="TextBox 21" descr=""/>
            <p:cNvPicPr/>
            <p:nvPr/>
          </p:nvPicPr>
          <p:blipFill>
            <a:blip r:embed="rId1"/>
            <a:stretch/>
          </p:blipFill>
          <p:spPr>
            <a:xfrm>
              <a:off x="426960" y="3200400"/>
              <a:ext cx="31021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41520" y="3308400"/>
              <a:ext cx="26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Georgia"/>
                </a:rPr>
                <a:t>Systemat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23"/>
          <p:cNvSpPr/>
          <p:nvPr/>
        </p:nvSpPr>
        <p:spPr>
          <a:xfrm>
            <a:off x="4343400" y="2438280"/>
            <a:ext cx="3657600" cy="98208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Tax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(class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4"/>
          <p:cNvSpPr/>
          <p:nvPr/>
        </p:nvSpPr>
        <p:spPr>
          <a:xfrm>
            <a:off x="4343400" y="3962520"/>
            <a:ext cx="3657600" cy="98208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Phyloge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(evolutionary his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28"/>
          <p:cNvCxnSpPr>
            <a:endCxn id="224" idx="1"/>
          </p:cNvCxnSpPr>
          <p:nvPr/>
        </p:nvCxnSpPr>
        <p:spPr>
          <a:xfrm flipV="1">
            <a:off x="3352680" y="2931840"/>
            <a:ext cx="991440" cy="66888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stealth" w="med"/>
          </a:ln>
        </p:spPr>
      </p:cxnSp>
      <p:cxnSp>
        <p:nvCxnSpPr>
          <p:cNvPr id="227" name="Straight Arrow Connector 29"/>
          <p:cNvCxnSpPr>
            <a:endCxn id="225" idx="1"/>
          </p:cNvCxnSpPr>
          <p:nvPr/>
        </p:nvCxnSpPr>
        <p:spPr>
          <a:xfrm>
            <a:off x="3352680" y="3600000"/>
            <a:ext cx="991440" cy="85644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stealth" w="med"/>
          </a:ln>
        </p:spPr>
      </p:cxn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24456"/>
                </a:solidFill>
                <a:uFillTx/>
                <a:latin typeface="Trebuchet MS"/>
              </a:rPr>
              <a:t>Systematics</a:t>
            </a: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: classifying organisms and determining their evolutionary relationships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26_02_HumansFungiTree-L.jpg"/>
          <p:cNvPicPr/>
          <p:nvPr/>
        </p:nvPicPr>
        <p:blipFill>
          <a:blip r:embed="rId1"/>
          <a:stretch/>
        </p:blipFill>
        <p:spPr>
          <a:xfrm>
            <a:off x="4038480" y="2209680"/>
            <a:ext cx="4827600" cy="43135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04920" y="7617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284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ols used to determine evolutionary relationship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548a"/>
                </a:solidFill>
                <a:latin typeface="Georgia"/>
              </a:rPr>
              <a:t>Fossils</a:t>
            </a:r>
            <a:endParaRPr b="0" lang="en-US" sz="28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548a"/>
                </a:solidFill>
                <a:latin typeface="Georgia"/>
              </a:rPr>
              <a:t>Morphology (homologous structures)</a:t>
            </a:r>
            <a:endParaRPr b="0" lang="en-US" sz="28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548a"/>
                </a:solidFill>
                <a:latin typeface="Georgia"/>
              </a:rPr>
              <a:t>Molecular evidence (DNA, amino acids)</a:t>
            </a:r>
            <a:endParaRPr b="0" lang="en-US" sz="28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548a"/>
              </a:solidFill>
              <a:latin typeface="Georgia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219320" y="500364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 and fungi are more closely related than either is to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1219320" y="44006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more closely rel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128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24456"/>
                </a:solidFill>
                <a:uFillTx/>
                <a:latin typeface="Trebuchet MS"/>
              </a:rPr>
              <a:t>Taxonomy</a:t>
            </a: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: science of classifying and naming organism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7924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</a:rPr>
              <a:t>Binomial nomenclature  (</a:t>
            </a:r>
            <a:r>
              <a:rPr b="0" i="1" lang="en-US" sz="2800" spc="-1" strike="noStrike">
                <a:solidFill>
                  <a:srgbClr val="c00000"/>
                </a:solidFill>
                <a:latin typeface="Georgia"/>
              </a:rPr>
              <a:t>Genus species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21" descr="26_03LinnaeanClassif-L.jpg"/>
          <p:cNvPicPr/>
          <p:nvPr/>
        </p:nvPicPr>
        <p:blipFill>
          <a:blip r:embed="rId1"/>
          <a:stretch/>
        </p:blipFill>
        <p:spPr>
          <a:xfrm>
            <a:off x="1066680" y="2362320"/>
            <a:ext cx="3834000" cy="44956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2"/>
          <p:cNvSpPr/>
          <p:nvPr/>
        </p:nvSpPr>
        <p:spPr>
          <a:xfrm>
            <a:off x="4648320" y="586728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ing system developed by Carolus Linna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The various levels of the scientific classification system."/>
          <p:cNvPicPr/>
          <p:nvPr/>
        </p:nvPicPr>
        <p:blipFill>
          <a:blip r:embed="rId1"/>
          <a:stretch/>
        </p:blipFill>
        <p:spPr>
          <a:xfrm>
            <a:off x="1676520" y="685800"/>
            <a:ext cx="2286000" cy="58672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4343400" y="175248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i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he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i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s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i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man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own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hylogenetic Tre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29528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anching diagram that shows evolutionary history of a group of organis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3" descr="26_04CarnivoraPhylogeny-L.jpg"/>
          <p:cNvPicPr/>
          <p:nvPr/>
        </p:nvPicPr>
        <p:blipFill>
          <a:blip r:embed="rId1"/>
          <a:stretch/>
        </p:blipFill>
        <p:spPr>
          <a:xfrm>
            <a:off x="2438280" y="2286000"/>
            <a:ext cx="446580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26_05HowToReadATree-L.jpg"/>
          <p:cNvPicPr/>
          <p:nvPr/>
        </p:nvPicPr>
        <p:blipFill>
          <a:blip r:embed="rId1"/>
          <a:stretch/>
        </p:blipFill>
        <p:spPr>
          <a:xfrm>
            <a:off x="304920" y="533520"/>
            <a:ext cx="854712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5:38:16Z</dcterms:created>
  <dc:creator>Chris Nancy Chou</dc:creator>
  <dc:description/>
  <dc:language>en-US</dc:language>
  <cp:lastModifiedBy>Chris Nancy Chou</cp:lastModifiedBy>
  <dcterms:modified xsi:type="dcterms:W3CDTF">2012-02-16T07:58:52Z</dcterms:modified>
  <cp:revision>40</cp:revision>
  <dc:subject/>
  <dc:title>Chapter 23</dc:title>
</cp:coreProperties>
</file>